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DD1E-EB01-4AD3-AEFD-B803A0CB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D5F-80CE-439A-88A3-55A8FB41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233-294F-4D6B-A608-E62202CE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923-8F8B-4085-ADEA-CBE234B5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706-D967-45D6-B411-A33C98C6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7B9-0E81-4D91-B80D-B99B9673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43B-7402-40DF-B8D5-2672131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EA4-2AE1-4FE8-BF61-C1BB4B30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37B-32B7-4C1B-83E4-7D1C831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EFF-92B4-4701-9F8D-2DEF4AFE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C6A-2213-493E-AB2E-F08AF15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82B-0AAC-432F-8E11-55D031F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E41-D780-4244-A74C-607B8CB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D58-D39D-4C9B-96A0-EE4BE4E4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contained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2-04-19T16:43:48Z</dcterms:modified>
  <cp:revision>61</cp:revision>
  <dc:subject/>
  <dc:title>Molecular Genetics</dc:title>
</cp:coreProperties>
</file>